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FC2-3A15-4F6A-ACF8-EA8A38FB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0AC-1B01-4B09-8D95-125F4040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2F9-86F2-44E2-B5B9-8D4112AC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D63-1E74-4286-B452-B8A342B9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218-70C9-42EB-8A20-48A1584B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869-464B-4DDC-ADE9-3AA3DCC0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F9B-207D-40B9-A1F6-09B6C0AC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18A-EE85-4D24-9632-272D0ECF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9F9-2A41-445E-A74E-E09D44F9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5B6-9310-47D4-BD00-5697993D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609-3D77-49D0-B95A-84AC669E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C5A-EDD8-4604-961F-65AC9837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2C0D-E818-4249-B919-D812026B7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Hypothesi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esting -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838080" y="83808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83808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83808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9907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9325"/>
          <a:stretch/>
        </p:blipFill>
        <p:spPr>
          <a:xfrm>
            <a:off x="990720" y="68580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90720" y="10666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09480" y="762120"/>
            <a:ext cx="784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90720" y="3200400"/>
            <a:ext cx="7391160" cy="327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7610"/>
          <a:stretch/>
        </p:blipFill>
        <p:spPr>
          <a:xfrm>
            <a:off x="990720" y="380880"/>
            <a:ext cx="7391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14400" y="838080"/>
            <a:ext cx="7391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50006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838080"/>
            <a:ext cx="7391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83808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573"/>
          <a:stretch/>
        </p:blipFill>
        <p:spPr>
          <a:xfrm>
            <a:off x="990720" y="609480"/>
            <a:ext cx="7162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047"/>
          <a:stretch/>
        </p:blipFill>
        <p:spPr>
          <a:xfrm>
            <a:off x="685800" y="45720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1066680" y="83808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743200"/>
            <a:ext cx="723888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228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080" y="57150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133720"/>
            <a:ext cx="7238880" cy="20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53080" y="396252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66680" y="449568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68580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1T16:00:53Z</dcterms:modified>
  <cp:revision>44</cp:revision>
  <dc:subject/>
  <dc:title>PowerPoint Presentation</dc:title>
</cp:coreProperties>
</file>